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1A725-A9B1-45C0-B3CA-AC2FB8C0FC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A583D-74AD-4A96-8032-65B288C67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F976B-E609-4374-B6CA-78A55DF4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5AA0C-8F90-4F09-BCC3-24459403CE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BC1F0-2CBF-4C07-B329-42174D320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2C63A-C617-4C1C-8505-CBAE7AF69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51F74-1B53-4C0F-81E8-341091C7E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B17A7-FE37-43B2-BC7A-7454962F9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97DD1-7893-4638-8586-6CD0093DA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528E5-31CC-490A-81C2-944FE1D2C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EDE38-88A6-4307-B7C2-84E897A5F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52448-BF2F-44FD-B1E0-BA57EC582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071BD-A6F5-44A1-B9E9-123CF840CBD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6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胰腺癌，在进行支持治疗和术前准备后，拟行保留幽门的胰十二指肠切除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进行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诊断为癌症、对手术治疗缺乏信心及担心预后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胰胆管梗阻、癌肿侵犯腹膜后神经丛及手术创伤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食欲下降、呕吐及癌肿消耗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感染、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、胰瘘、胆瘘、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糖异常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胰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控制血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以上，短期内出现持续上腹部疼痛、腹胀、食欲下降、消瘦等症状时，应注意进行胰腺疾病的筛查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量多餐，以均衡饮食为主，戒烟酒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按计划进行放化疗。放化疗期间需注意定期复查血常规，以及早发现骨髓抑制征象。若血白细胞计数小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应暂停放化疗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复查一次，若出现腹痛、进行性消瘦、贫血、乏力、发热等症状，及时到医院就诊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胰腺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明，相关因素有饮食、遗传、环境、生活方式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症状并不典型，上腹部不适是常见的首发症状，梗阻性进行性黄疸是胰头癌患者最主要的临床表现。患者还可有消化道症状、消瘦乏力、腹部肿块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胰腺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手术治疗为主，辅以化疗、放疗、分子靶向治疗等综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应关注患者的心理反应及疼痛情况，做好营养支持。术后应注意观察伤口情况及引流情况，及时发现感染、出血、胰瘘、胆瘘等并发症。做好术后随访等宣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胰腺癌的典型临床表现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括胰腺癌发病的相关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胰腺癌术后可能出现的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胰腺癌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胰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ancreatic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恶性程度较高的一种消化道肿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的中老年人群为主，男女发病比例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.5: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的胰腺癌发生在胰头，其次为胰体或胰尾，全胰癌少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胰腺癌转移的途径主要是淋巴转移和直接浸润，其次为血行转移。最常见的部位为肝、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6-1 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前偶然发现小便颜色变黄并逐渐加深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前出现皮肤巩膜黄染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皮肤、巩膜黄染。腹软，上腹部胆囊区可触及一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小肿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：胆囊增大，肝内、外胆管扩张、胆囊内未发现结石或其他占位性病变，胰管广泛扩张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：肝大小正常、肝内胆管扩张。胆囊增大，胆总管扩张。十二指肠附近有一肿块，无远处转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RCP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Vate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头部扩张，内有一直径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5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肿块。胆总管扩张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4cm,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内无结石，乳头部狭窄。胰管扩张明显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上腹部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化道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多无明显体征，但多数患者在病程发展中因累及胆管可出现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患者可出现黄疸伴无痛性胆囊增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,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称为库瓦西耶征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urvoisier sig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是胰头癌的重要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免疫学检查、血清生化检查、血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、经内镜逆行胰胆管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RC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、经皮肝穿刺胆道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T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细胞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及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胰十二指肠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Whippl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留幽门的胰头十二指肠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PP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迄今为止，胰腺癌的常规化疗和放疗并未得到广泛开展，这与目前的放化疗药物对胰腺癌的敏感性均不强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40:20Z</dcterms:modified>
  <cp:revision>111</cp:revision>
  <dc:subject/>
  <dc:title>内科护理学</dc:title>
</cp:coreProperties>
</file>